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ED66-C0D0-4F81-829E-BF0D51DA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okresource.org/tok_classes/biobiobio/biomenu/transcription_translation/index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en.wikipedia.org/wiki/File:5'_cap_structure.png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ritannica.com/EBchecked/media/114928/Genes-are-made-up-of-promoter-regions-and-alternating-region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school.com/science/biology_place/biocoach/transcription/premr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iology.arizona.edu/molecular_bio/problem_sets/mol_genetics_of_eukaryotes/01t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9/how-rna-polymerase-binds-to-dna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dna-rna.net/2011/08/24/rna-transcription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t.berkeley.edu/users/terry/Classes/s260.1998/Week12/week12/node5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ature.com/scitable/topicpage/translation-dna-to-mrna-to-protein-393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E4C-6E35-4185-B84E-D26482D5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D7B-046E-48D4-AE24-57A39151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FF1-5CBB-48EC-BADF-531753EC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E3A-3433-4732-A1CE-581C2558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F1A-8A52-4392-A45D-C1C9ADCB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5B2-6E0F-43D1-9C1A-C50A362D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710-94DC-4A59-8EE8-A422E860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8A9-2B38-47BF-B3C3-FB12B744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8BB-9365-48D4-9353-5AD0FF32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ED3-7CA8-4844-A9D8-6D70C39E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343-140A-4592-B838-D9AD3AF4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CEB-0023-40E8-96B0-6CD25C84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425C-0916-43EE-8E1B-918F763B1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507470/student_view0/chapter3/animation__mrna_synthesis__transcription___quiz_1_.html" TargetMode="External"/><Relationship Id="rId2" Type="http://schemas.openxmlformats.org/officeDocument/2006/relationships/hyperlink" Target="http://www-class.unl.edu/biochem/gp2/m_biology/animation/gene/gene_a2.htm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2/1202001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xeculink.com/~ekimmel/mrna_flash.htm" TargetMode="External"/><Relationship Id="rId2" Type="http://schemas.openxmlformats.org/officeDocument/2006/relationships/hyperlink" Target="http://www.execulink.com/~ekimmel/mrna_flash.htm" TargetMode="External"/><Relationship Id="rId3" Type="http://schemas.openxmlformats.org/officeDocument/2006/relationships/hyperlink" Target="http://www.execulink.com/~ekimmel/mrna_flash.ht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ip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2090880"/>
            <a:ext cx="7772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imation &amp; qu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507470/student_view0/chapter3/animation__mrna_synthesis__transcription___quiz_1_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how animation of tran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-class.unl.edu/biochem/gp2/m_biology/animation/gene/gene_a2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&amp; qui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thelifewire/content/chp12/120200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transcriptional Mod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karyotic cells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-mR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tran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ill need to undergo three modifications before leaving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5’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methyl guanosin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’ c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dded to the start of the primary transcript to prevent digestion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3809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 of Poly(A) 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ly 200 adenine ribonucleotides are added to the 3’ end by poly-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(A) t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ukaryotic genome consists of 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non-coding region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-protein complexe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lice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t the introns out of the primary transcript and rejoin the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val of In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24240" y="1981080"/>
            <a:ext cx="429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RN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shows that exons may be joined in different combinations to produce different but related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s how in humans about 100 000 proteins can be produced from only around 20 000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 much for 1 gene - 1 polypeptid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where the DNA code is used to make a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RNA is ready to leave the nucleus for translation and it is now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RNA tran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3813120"/>
            <a:ext cx="77724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imation of post-transcriptional mod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xeculink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/~ekimmel/mrna_flash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binds 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906800" y="1981080"/>
            <a:ext cx="32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r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beside the start of a gene (upstream of the ge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 site for RNA polymerase to bind to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TA bo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eukaryotes): high in adenine and thymine (easier to break H-bond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opens the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s mRNA by adding ribonucleotides from 5’ to 3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092320"/>
            <a:ext cx="38098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ate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NA is used as a template for making the complementary mRNA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DNA is not used for transcription, contains the same sequence as the new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NA polymerase reache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 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ranscription stops and mRNA is rel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021040"/>
            <a:ext cx="38098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2273400"/>
            <a:ext cx="77724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3:12Z</dcterms:created>
  <dc:creator>rubina khan</dc:creator>
  <dc:description/>
  <dc:language>en-US</dc:language>
  <cp:lastModifiedBy>rubina khan</cp:lastModifiedBy>
  <dcterms:modified xsi:type="dcterms:W3CDTF">2012-04-25T12:55:52Z</dcterms:modified>
  <cp:revision>109</cp:revision>
  <dc:subject/>
  <dc:title>Molecular Genetics</dc:title>
</cp:coreProperties>
</file>